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DA26C-B9D9-4997-953F-FE371096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4EE28-DD68-47DC-B740-80421C48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A63E8-AE37-4DDD-9D6C-05480FDD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13DEC-0357-4DC3-B58E-C6C947DA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9FE4-5E13-4F9F-ABED-B829855A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BC83-93AD-43E0-BCEA-725D223C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F098-8792-43FC-B100-556E10ED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C815-0266-4DFF-AA6F-E57FFABF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7B49-5D84-40FB-AA95-1CA4A9B6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BA32-048C-470C-92D3-7CBDB1AF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26BB-0E22-4A15-BCD6-95ACC415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9E6E2-9CE1-4863-BEA9-AF7121F8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0AD4-6585-4865-93BA-7E6025E4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0C7F-9A78-421E-982D-BDC43910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C7D5-7860-4109-B569-7647150F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CA20-4EE9-4AD1-AD83-1F4E2682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3218-9429-4839-BDA1-AB747E4B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72CE-192D-4622-8169-AF17F7F5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33A76-114A-4F84-98EE-921F5F49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E67DA-83D5-4854-9D54-B47BD734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D6C9E-CE4F-4A76-8D6A-71F1F63D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373BA-187D-4395-9B25-168C1839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3F4C0-913E-49A6-913E-20B70A1B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46C5E-A6A5-40BE-B690-68EE5615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BD26-62C6-407E-8565-E5974A859E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B9E4-6262-4E7F-8230-5A985C08B8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Papyrus"/>
              </a:rPr>
              <a:t>JEFFERSON’S PRESIDENCY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apyrus"/>
              </a:rPr>
              <a:t>Expanding the Boundaries of the New N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29000" y="3200400"/>
            <a:ext cx="2286000" cy="196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Papyrus"/>
              </a:rPr>
              <a:t>Lewis &amp; Clark Expediti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rps of Discove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d Northwest Passage (water route to Pacific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lore Missouri Ri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udy plants &amp; anima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act peacefully with Native Americans, study their cul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ft St. Louis May 1804, returned 18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pt detailed journals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00400" y="762120"/>
            <a:ext cx="25336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pyrus"/>
              </a:rPr>
              <a:t>Lewis &amp; Clark Exped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40 men traveled up the Missouri Ri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reached North Dakota November 180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spent winter with Mandan India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set out in spring of 180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joined by French trapper, wife, &amp; bab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wife Sacagawea was Shoshone, became their guide (15 yrs ol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81280" y="4581360"/>
            <a:ext cx="20098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pyrus"/>
              </a:rPr>
              <a:t>Lewis &amp; Clark Exped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reached the Great Falls of the Missour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on to the Rocky M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obtained horses &amp; help crossing the mountains from the Shoshone (chief Sacagawea’s brothe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followed Columbia River to Pacific Ocea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spent winter 1805-6 on Pacific Coa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returned to St. Lou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brought back geographic &amp; scientific in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their expedition sparked more interest in the We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124080" y="1066680"/>
            <a:ext cx="253224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ages of the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ewis &amp; Clark Expedition: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ere &amp; How They Traveled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556080" cy="2681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446640" cy="2705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8600" y="4343400"/>
            <a:ext cx="3446640" cy="2293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191120" y="4343400"/>
            <a:ext cx="30715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ages of the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ewis &amp; Clark Expedition: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The Missouri River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066680" y="4267080"/>
            <a:ext cx="3162600" cy="2266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3281400" cy="2222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952880" y="1905120"/>
            <a:ext cx="3264120" cy="221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4876920" y="4267080"/>
            <a:ext cx="34462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ages of the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ewis &amp; Clark Expedition: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Columbia River to the Pacific Ocea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3373560" cy="276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3529080" cy="2825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523880" y="4267080"/>
            <a:ext cx="3446640" cy="2293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5181480" y="4419720"/>
            <a:ext cx="36561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ages of the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ewis &amp; Clark Expedition: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The Rocky Mountai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446640" cy="2293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62120" y="4343400"/>
            <a:ext cx="2860560" cy="2289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800600" y="4343400"/>
            <a:ext cx="34466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Images of the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ewis &amp; Clark Expedition: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Sacagawea (“Bird Woman”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pyrus"/>
              </a:rPr>
              <a:t>Election of 1800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Why did Jefferson call it a “</a:t>
            </a:r>
            <a:r>
              <a:rPr b="1" lang="en-US" sz="2800" spc="-1" strike="noStrike">
                <a:solidFill>
                  <a:srgbClr val="ff0000"/>
                </a:solidFill>
                <a:latin typeface="Papyrus"/>
              </a:rPr>
              <a:t>revolution</a:t>
            </a: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?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1</a:t>
            </a:r>
            <a:r>
              <a:rPr b="1" lang="en-US" sz="2800" spc="-1" strike="noStrike" baseline="30000">
                <a:solidFill>
                  <a:srgbClr val="ffffff"/>
                </a:solidFill>
                <a:latin typeface="Papyrus"/>
              </a:rPr>
              <a:t>st</a:t>
            </a: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 peaceful transfer of pow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emocratic-Republicans replaced Federalis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Jefferson &amp; Burr tied 73 electoral vo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decided by House of Representati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strong positive response by the peo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pyrus"/>
              </a:rPr>
              <a:t>“</a:t>
            </a:r>
            <a:r>
              <a:rPr b="1" lang="en-US" sz="2800" spc="-1" strike="noStrike">
                <a:solidFill>
                  <a:srgbClr val="ff0000"/>
                </a:solidFill>
                <a:latin typeface="Papyrus"/>
              </a:rPr>
              <a:t>We are all Republicans, we are all Federalists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62920" y="152280"/>
            <a:ext cx="161748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Papyrus"/>
              </a:rPr>
              <a:t>Jefferson’s Program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Papyrus"/>
              </a:rPr>
              <a:t>An Agrarian Vis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apyrus"/>
              </a:rPr>
              <a:t>nation of independent farm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morals &amp; values associated with country liv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abundant land so people had breathing sp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no need to crowd into cit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Papyrus"/>
              </a:rPr>
              <a:t>elevated the common m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with education people will make correct political decis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walked to his inaugur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dressed simp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ate at round tables so no one at hea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553080" y="1523880"/>
            <a:ext cx="24098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Papyrus"/>
              </a:rPr>
              <a:t>Jefferson’s Program: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Papyrus"/>
              </a:rPr>
              <a:t>Changing the Role of Government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less power for the federal gover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apyrus"/>
              </a:rPr>
              <a:t>smaller government</a:t>
            </a: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 (less government officials &amp; smaller militar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apyrus"/>
              </a:rPr>
              <a:t>lower taxes</a:t>
            </a: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 (got rid of excise on whiske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reduced national debt (used tariffs &amp; land sal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allowed Alien &amp; Sedition Acts to expire; released those imprisoned under th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Papyrus"/>
              </a:rPr>
              <a:t>Defining the Role &amp; Powers of the Judiciar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Judiciary Act of 1801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Adams packed courts with Federalist judges with “midnight appointment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Adams appointed John Marshall Chief Just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pyrus"/>
              </a:rPr>
              <a:t>Marbury v. Madis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Judiciary Act unconstitution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It is emphatically the province and duty of the Judicial Department to say what the law is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pyrus"/>
              </a:rPr>
              <a:t>principle of judicial review establish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772400" y="4979880"/>
            <a:ext cx="137160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Papyrus"/>
              </a:rPr>
              <a:t>The “West” &amp; Beyond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land between Appalachian Mts &amp; Mississippi Riv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thousands settling the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Kentucky &amp; Tennessee states in 1800, Ohio 180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France &amp; Spain arguing over possession of Louisiana Territory (between Mississippi River &amp; Rocky M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Captain Robert Gray established US claims to Pacific Northwest 179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Russian &amp; English claims to Northwes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Papyrus"/>
              </a:rPr>
              <a:t>Spain in Californ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838080"/>
            <a:ext cx="25146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Papyrus"/>
              </a:rPr>
              <a:t>Napoleon Changes His Mind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Spain gave Louisiana Territory back to France in 1800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Napoleon planned to build North American emp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fighting the </a:t>
            </a:r>
            <a:r>
              <a:rPr b="1" lang="en-US" sz="2800" spc="-1" strike="noStrike">
                <a:solidFill>
                  <a:srgbClr val="ff0000"/>
                </a:solidFill>
                <a:latin typeface="Papyrus"/>
              </a:rPr>
              <a:t>slave revolt in Haiti</a:t>
            </a: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 depleted French resour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France engaged in expensive war with Engl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Napoleon abandoned hopes of North American emp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Papyrus"/>
              </a:rPr>
              <a:t>good timing for Jeffers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Papyrus"/>
              </a:rPr>
              <a:t>The Louisiana Purchas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farmers &amp; merchants sent goods down Mississippi River to </a:t>
            </a:r>
            <a:r>
              <a:rPr b="1" lang="en-US" sz="2800" spc="-1" strike="noStrike">
                <a:solidFill>
                  <a:srgbClr val="ff0000"/>
                </a:solidFill>
                <a:latin typeface="Papyrus"/>
              </a:rPr>
              <a:t>New Orleans</a:t>
            </a: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 for ship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Spain closed New Orleans to Americans before turning it over to Fr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Western settlers wanted war against France &amp; Spai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Jefferson offered to buy New Orlean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pyrus"/>
              </a:rPr>
              <a:t>Napoleon offered him </a:t>
            </a:r>
            <a:r>
              <a:rPr b="1" lang="en-US" sz="2800" spc="-1" strike="noStrike">
                <a:solidFill>
                  <a:srgbClr val="ff0000"/>
                </a:solidFill>
                <a:latin typeface="Papyrus"/>
              </a:rPr>
              <a:t>all of Louisiana Territo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00400" y="762120"/>
            <a:ext cx="269568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Papyrus"/>
              </a:rPr>
              <a:t>Jefferson’s Dilemm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apyrus"/>
              </a:rPr>
              <a:t>strict construction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needed land to realize his vision of an America of farm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justified purchase on basis of </a:t>
            </a:r>
            <a:r>
              <a:rPr b="1" lang="en-US" sz="3200" spc="-1" strike="noStrike">
                <a:solidFill>
                  <a:srgbClr val="ff0000"/>
                </a:solidFill>
                <a:latin typeface="Papyrus"/>
              </a:rPr>
              <a:t>national secu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April 30, 1803 Louisiana Territory part of Amer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$15 million (3 cents/acr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Papyrus"/>
              </a:rPr>
              <a:t>doubled size of 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15000" y="4724280"/>
            <a:ext cx="24098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3:56:03Z</dcterms:created>
  <dc:creator>epilla</dc:creator>
  <dc:description/>
  <dc:language>en-US</dc:language>
  <cp:lastModifiedBy>epilla</cp:lastModifiedBy>
  <dcterms:modified xsi:type="dcterms:W3CDTF">2011-02-18T22:29:07Z</dcterms:modified>
  <cp:revision>13</cp:revision>
  <dc:subject/>
  <dc:title>THE REVOLUTION OF 1800 </dc:title>
</cp:coreProperties>
</file>